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indows%2098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C38-239E-4A7D-B62B-40407421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327-70EE-40C1-878C-1D89B621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654-109A-4164-9B04-FFC0D2D9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41E-4B8D-4FED-AC49-C373D5D2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68E-F79A-480D-A0AA-8B2A7D8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E9E-E95E-4B64-8105-7AF71F2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89E-0658-4A6F-943E-CB2D1544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59F-6B70-4558-BD0C-22EF5A1A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428-78C8-4639-AB0D-D7EA33E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103-C102-4DC6-9D76-C8AEE1C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AD1-D452-457C-AC3B-A0E1623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52A-3ACF-42E8-B019-2E74DFE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A9D1-571E-47C8-A699-F84E97FB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ocros7.webs.com/s8usrprof.pps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ows%2098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75240" y="28465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ing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12520" y="4781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ocros 8 Ul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48000" y="4878360"/>
            <a:ext cx="1731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206360"/>
            <a:ext cx="813600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DWEnterprise.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cros8-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er Na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sswor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ou are logging on to BDWEnterprise.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701640"/>
            <a:ext cx="1224000" cy="1295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295280"/>
              <a:gd name="textAreaBottom" fmla="*/ 1235520 h 129528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/>
          </p:cNvPr>
          <p:cNvSpPr/>
          <p:nvPr/>
        </p:nvSpPr>
        <p:spPr>
          <a:xfrm>
            <a:off x="611280" y="2790720"/>
            <a:ext cx="1152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"/>
              </a:rPr>
              <a:t>Log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1835280" y="2790720"/>
            <a:ext cx="1152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endshow"/>
          </p:cNvPr>
          <p:cNvSpPr/>
          <p:nvPr/>
        </p:nvSpPr>
        <p:spPr>
          <a:xfrm>
            <a:off x="3059280" y="2790720"/>
            <a:ext cx="1152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"/>
              </a:rPr>
              <a:t>Shut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13680" y="284652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ing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3840" y="2846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ading Setting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7400" y="284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lying Setting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01240" y="284652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paring Desktop Environ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97640" y="28465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arting So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1206360"/>
            <a:ext cx="813600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2520" y="4781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ocros 8 Ul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48000" y="4878360"/>
            <a:ext cx="1731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906360" y="199872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</a:rPr>
              <a:t>Please Wai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0000"/>
            <a:ext cx="144360" cy="14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070000"/>
            <a:ext cx="144360" cy="1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12520" y="4781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ocros 8 Ul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48000" y="4878360"/>
            <a:ext cx="1731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206360"/>
            <a:ext cx="813600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DWEnterprise.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cros8-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ss ENTER to lo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701640"/>
            <a:ext cx="1224000" cy="1295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295280"/>
              <a:gd name="textAreaBottom" fmla="*/ 1235520 h 129528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20:04:40Z</dcterms:created>
  <dc:creator>administrator</dc:creator>
  <dc:description/>
  <dc:language>en-US</dc:language>
  <cp:lastModifiedBy>administrator</cp:lastModifiedBy>
  <dcterms:modified xsi:type="dcterms:W3CDTF">2014-03-13T20:30:07Z</dcterms:modified>
  <cp:revision>50</cp:revision>
  <dc:subject/>
  <dc:title>Slide 1</dc:title>
</cp:coreProperties>
</file>