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indows%2098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C61-6E2B-441B-8F26-985AFDF2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8BF-8F04-47CE-BD06-DDD748AD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CD0-91B7-48A7-89AA-60EFB2B8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13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6120"/>
            <a:ext cx="264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7E8-D190-461E-B5C8-DE8DA19F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201-057B-4F72-894C-D8FD262C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2F1-BD3F-4F5A-8E62-D0EBF18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0CC-A225-40B8-9E5C-86D525A4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BE2-2402-4687-83AD-2F3E9F30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AEA-FB15-4BB4-976D-C6B9647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73A-AB48-4835-9348-1C3A262C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61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671-B48C-4AD8-A57F-785312C0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1320"/>
            <a:ext cx="40158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6120"/>
            <a:ext cx="8229600" cy="16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47A-3237-4148-9A7B-76F1417E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1320"/>
            <a:ext cx="822960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792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79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2CEA-EB91-4A86-B0EA-C94059CC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ocros7.webs.com/s8usrprof.pps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ows%2098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75240" y="28465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ing Lic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12520" y="4781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ocros 8 Ul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348000" y="4878360"/>
            <a:ext cx="1731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206360"/>
            <a:ext cx="813600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DWEnterprise.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cros8-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er Na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sswor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ou are logging on to BDWEnterprise.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701640"/>
            <a:ext cx="1224000" cy="1295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295280"/>
              <a:gd name="textAreaBottom" fmla="*/ 1235520 h 129528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/>
          </p:cNvPr>
          <p:cNvSpPr/>
          <p:nvPr/>
        </p:nvSpPr>
        <p:spPr>
          <a:xfrm>
            <a:off x="611280" y="2790720"/>
            <a:ext cx="1152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 UI"/>
              </a:rPr>
              <a:t>Log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1835280" y="2790720"/>
            <a:ext cx="1152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 UI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endshow"/>
          </p:cNvPr>
          <p:cNvSpPr/>
          <p:nvPr/>
        </p:nvSpPr>
        <p:spPr>
          <a:xfrm>
            <a:off x="3059280" y="2790720"/>
            <a:ext cx="1152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 UI"/>
              </a:rPr>
              <a:t>Shut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13680" y="2846520"/>
            <a:ext cx="19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ing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3840" y="28465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ading Setting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87400" y="284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lying Setting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01240" y="284652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paring Desktop Environ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4720" y="19987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ocro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97640" y="28465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tarting So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00360" y="3081240"/>
            <a:ext cx="38098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1206360"/>
            <a:ext cx="813600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2520" y="4781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ocros 8 Ul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48000" y="4878360"/>
            <a:ext cx="1731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906360" y="199872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"/>
              </a:rPr>
              <a:t>Please Wai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2070000"/>
            <a:ext cx="144360" cy="14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2070000"/>
            <a:ext cx="144360" cy="1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333399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12520" y="4781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ocros 8 Ul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48000" y="4878360"/>
            <a:ext cx="17316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206360"/>
            <a:ext cx="813600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DWEnterprise.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cros8-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ss ENTER to log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701640"/>
            <a:ext cx="1224000" cy="129528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295280"/>
              <a:gd name="textAreaBottom" fmla="*/ 1235520 h 129528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20:04:40Z</dcterms:created>
  <dc:creator>administrator</dc:creator>
  <dc:description/>
  <dc:language>en-US</dc:language>
  <cp:lastModifiedBy>administrator</cp:lastModifiedBy>
  <dcterms:modified xsi:type="dcterms:W3CDTF">2014-03-13T20:30:07Z</dcterms:modified>
  <cp:revision>50</cp:revision>
  <dc:subject/>
  <dc:title>Slide 1</dc:title>
</cp:coreProperties>
</file>