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82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CB9C-6F06-4DD7-99F6-EA79234B0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5298-408E-4B51-85F2-9D861AB3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7178-D5E9-47FB-824B-5B39B21D6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38B4-B48B-4574-AABF-7D768589A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792F-1AB3-4400-921D-14CB54F1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F5D0-FC7F-4E0A-BF6A-9E612B78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6D12-5F01-462D-85F3-18060316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E004-CFA9-4FD6-86A5-438080BC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06BE-F617-4E98-9063-7477C828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15BE-FEB0-414A-A055-69B0B8AB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3996-C70B-47CF-84C5-18C54C5C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C4D4-1E2F-434D-BF44-1C7268CB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792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CFB5-2CDA-4D70-8A49-F5D7D9DE1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ocros7.webs.com/socros-pc.pps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35280" y="2430360"/>
            <a:ext cx="5514840" cy="3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Dotum"/>
              </a:rPr>
              <a:t>Socros Web Server Connection Utility 7.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Dotum"/>
              <a:ea typeface="Dotum"/>
            </a:endParaRPr>
          </a:p>
        </p:txBody>
      </p:sp>
      <p:sp>
        <p:nvSpPr>
          <p:cNvPr id="42" name=""/>
          <p:cNvSpPr/>
          <p:nvPr/>
        </p:nvSpPr>
        <p:spPr>
          <a:xfrm>
            <a:off x="3436200" y="284652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eparing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00360" y="3081240"/>
            <a:ext cx="380988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835280" y="2430360"/>
            <a:ext cx="5514840" cy="3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Dotum"/>
              </a:rPr>
              <a:t>Socros Web Server Connection Utility 7.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Dotum"/>
              <a:ea typeface="Dotum"/>
            </a:endParaRPr>
          </a:p>
        </p:txBody>
      </p:sp>
      <p:sp>
        <p:nvSpPr>
          <p:cNvPr id="45" name=""/>
          <p:cNvSpPr/>
          <p:nvPr/>
        </p:nvSpPr>
        <p:spPr>
          <a:xfrm>
            <a:off x="3230640" y="284652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arting MSRDP 6.0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00360" y="3081240"/>
            <a:ext cx="380988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835280" y="2430360"/>
            <a:ext cx="5514840" cy="3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Dotum"/>
              </a:rPr>
              <a:t>Socros Web Server Connection Utility 7.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Dotum"/>
              <a:ea typeface="Dotum"/>
            </a:endParaRPr>
          </a:p>
        </p:txBody>
      </p:sp>
      <p:sp>
        <p:nvSpPr>
          <p:cNvPr id="48" name=""/>
          <p:cNvSpPr/>
          <p:nvPr/>
        </p:nvSpPr>
        <p:spPr>
          <a:xfrm>
            <a:off x="3272400" y="284652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unning in COMPAT vi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700360" y="3081240"/>
            <a:ext cx="380988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00360" y="1638360"/>
            <a:ext cx="3311640" cy="172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lcome to the Web Edition of Socros 7 Ultim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00360" y="1422360"/>
            <a:ext cx="3311640" cy="216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Socros WebRDP Cli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3780000" y="2790720"/>
            <a:ext cx="1223640" cy="142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 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endshow"/>
          </p:cNvPr>
          <p:cNvSpPr/>
          <p:nvPr/>
        </p:nvSpPr>
        <p:spPr>
          <a:xfrm>
            <a:off x="3780000" y="3006720"/>
            <a:ext cx="1223640" cy="142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ort 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700360" y="1638360"/>
            <a:ext cx="3311640" cy="172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ess continue to connect to the Noctooa serv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00360" y="1422360"/>
            <a:ext cx="3311640" cy="216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Webrdpclient  -Nativeinstall.es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"/>
          </p:cNvPr>
          <p:cNvSpPr/>
          <p:nvPr/>
        </p:nvSpPr>
        <p:spPr>
          <a:xfrm>
            <a:off x="3780000" y="2790720"/>
            <a:ext cx="1223640" cy="142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in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" action="ppaction://hlinkshowjump?jump=endshow"/>
          </p:cNvPr>
          <p:cNvSpPr/>
          <p:nvPr/>
        </p:nvSpPr>
        <p:spPr>
          <a:xfrm>
            <a:off x="3780000" y="3006720"/>
            <a:ext cx="1223640" cy="142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20:04:40Z</dcterms:created>
  <dc:creator>administrator</dc:creator>
  <dc:description/>
  <dc:language>en-US</dc:language>
  <cp:lastModifiedBy>administrator</cp:lastModifiedBy>
  <dcterms:modified xsi:type="dcterms:W3CDTF">2014-02-24T17:14:11Z</dcterms:modified>
  <cp:revision>18</cp:revision>
  <dc:subject/>
  <dc:title>Slide 1</dc:title>
</cp:coreProperties>
</file>