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760-706F-41B6-B2E8-0ED465CE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8A4-EDA6-475E-96DF-8015BF0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D4B-0930-4B3B-A0D9-23A794F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24D-BBCE-4519-83B4-6BB62EBA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F4B-014D-44A6-A230-05E274A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907-E39B-4314-AF52-B1120D7E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BD7-78A3-43C4-8520-16BAFECA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742-DE4A-4C7F-9689-3232A89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A78-636B-44C6-ABB0-6172E698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330-1CCA-4368-9EEE-D6EEB0E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8E8-892D-4E20-BD10-7B2F74B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240-1F24-48F7-8C31-4C327A3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F7ED-BF6D-4EE1-844E-67E6A46B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ros7.webs.com/socros-pc.pps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2" name=""/>
          <p:cNvSpPr/>
          <p:nvPr/>
        </p:nvSpPr>
        <p:spPr>
          <a:xfrm>
            <a:off x="3436200" y="28465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paring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5" name=""/>
          <p:cNvSpPr/>
          <p:nvPr/>
        </p:nvSpPr>
        <p:spPr>
          <a:xfrm>
            <a:off x="3230640" y="2846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ing MSRDP 6.0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8" name=""/>
          <p:cNvSpPr/>
          <p:nvPr/>
        </p:nvSpPr>
        <p:spPr>
          <a:xfrm>
            <a:off x="3272400" y="2846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nning in COMPAT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1638360"/>
            <a:ext cx="3311640" cy="172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lcome to the Web Edition of Socros 7 Ultim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422360"/>
            <a:ext cx="331164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ocros WebRDP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780000" y="2790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 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3780000" y="3006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rt 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1638360"/>
            <a:ext cx="3311640" cy="172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ss continue to connect to the Noctooa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422360"/>
            <a:ext cx="331164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ebrdpclient  -Nativeinstall.e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/>
          </p:cNvPr>
          <p:cNvSpPr/>
          <p:nvPr/>
        </p:nvSpPr>
        <p:spPr>
          <a:xfrm>
            <a:off x="3780000" y="2790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3780000" y="3006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20:04:40Z</dcterms:created>
  <dc:creator>administrator</dc:creator>
  <dc:description/>
  <dc:language>en-US</dc:language>
  <cp:lastModifiedBy>administrator</cp:lastModifiedBy>
  <dcterms:modified xsi:type="dcterms:W3CDTF">2014-02-24T17:14:11Z</dcterms:modified>
  <cp:revision>18</cp:revision>
  <dc:subject/>
  <dc:title>Slide 1</dc:title>
</cp:coreProperties>
</file>